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7A93-B219-4464-9A54-776D07F1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346C-E940-4069-8D71-DB94191A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9177-D8C6-4CD6-A4A4-5328B268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830C-22A9-4183-AA75-DF89F9E46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D12D-6DB4-4778-B561-6C69C309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CCA4-C322-4C10-A414-35DD8A95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40BA-A1BC-4B91-92C7-33099DE9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388B-5A8E-4DE0-8BD4-FECDABFE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7537-6FF4-44E4-9F77-BE6D3BEB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7013-36F8-4589-A6BE-0F35F841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22EB-07FA-4DCD-8E38-02FA9A31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B1C5-4299-4D35-A402-0A2DA1BA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0016-93C8-4517-A1AA-03925E4B64F7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712(8188_8191_8192SU)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12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ke 8712 USB Linux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712_8188_8191_8192SU_usb_linux_v2.6.x.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tl8712_8188_8191_8192SU_usb_linux_v2.6.6.0.20100930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712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712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712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10-09-30T11:16:10Z</dcterms:modified>
  <cp:revision>102</cp:revision>
  <dc:subject/>
  <dc:title>投影片 1</dc:title>
</cp:coreProperties>
</file>