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0B7-62CB-44C5-AB63-765E2D66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F5A-FDF9-4527-BF7B-2750607B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B6A-7472-431E-A1ED-487F0958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191-AED4-4CBF-A4AC-9CB4D461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EC4-90C1-43C0-834C-DB67FD17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336-CAD8-4E98-966D-8155840B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88F-F878-4FAA-B452-2E55C88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4D7-A251-4FD4-9EAF-18AAED4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8E7-313D-4C4E-8B76-189A275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9C9-3372-4A0A-A2E1-CAE8DE88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4AF-307A-4ABE-9032-2E85269C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F08-4E8F-47DC-A6B0-5434B4B0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5C74-E79B-471B-914B-B4F6BC43281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.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6.0.20100930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9-30T11:16:10Z</dcterms:modified>
  <cp:revision>102</cp:revision>
  <dc:subject/>
  <dc:title>投影片 1</dc:title>
</cp:coreProperties>
</file>